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25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wmf" ContentType="image/x-wmf"/>
  <Override PartName="/ppt/media/image1.png" ContentType="image/png"/>
  <Override PartName="/ppt/media/image23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1C0-9B3C-471B-99A5-AFB32C28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6C1-87F3-4F3B-9233-E96A56A8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EBC-591C-4349-B79E-09A7DFEB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024-38FC-4FEA-AFB1-ED41D0B6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1B9-D128-42E3-BBBC-C2570170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143-43C1-4CDA-9B5D-89A2179E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0E6-9065-4301-B3DF-67912066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2F8-0234-4EA8-B31E-6A4ED7D3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97D-E52F-404B-AA69-2F0B223A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B51-3D36-4637-9E79-20350134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259-3E65-490A-99A8-D930BE26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DCC-315C-4E08-A0BE-2262F213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18 March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S.Rango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57F4-78F4-45F5-886A-771188D33FD3}" type="slidenum">
              <a:rPr b="1" lang="en-US" sz="16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3360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I2002b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187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14400" y="380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79440" y="42228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RN PROTOTYPE F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UFACT PRO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view of mechanical design &amp; constr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615-5C4B-43CA-B774-A8256A9091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 cooling circui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066680"/>
          <a:ext cx="914400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B5E-84FA-4ABB-BB86-D872CCDC5C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83808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ice of the all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A 6082-T6 / (AlMgSi1) is an acceptable compromise between the 4 main characteristic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chanical proper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lding ab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ical proper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istance to corro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7BE-13B9-4BEC-A83E-9658F0971D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B. Wel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prototype is entirely welded in the CERN workshop by Electron Beam Weld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vantages of EBW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ll adapted to thin wall thickness piec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ss deformations due to the narrow smelting bath (total angle: about 30</a:t>
            </a:r>
            <a:r>
              <a:rPr b="0" lang="en-US" sz="1200" spc="-1" strike="noStrike" baseline="7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cellent homogeneity (vacuum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ort transition area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nimum loss of initial mechanical characteristics (no more than 15% to 20%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advantages of EBW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lay generally long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r precision required for the juncti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r cost (between 20% and 50% more, according the design and dimension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E5F-3EC6-421D-94A1-E62927FB6D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BW – CERN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EBW%20installation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12520" y="38862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Vacuum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05360" y="190512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eam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84B-E7D1-4A93-81F3-5E998FD83E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chanica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in featur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ying in conventional mechanical 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ckness of the walls calculated for a minimum absorp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rovement of the cooling efficienc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cost radiation hardness insul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ighligh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on of a double sk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rayers directly feed by an annular low pressure water fil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ling circuit shared out for the waist z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ner waist exchange surface magnified by a factor 2 (round shape inner screw threa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amic balls used as spacers between inner conductor and double skin to ensure the concentricity of the both componen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of a glass disc insulator.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769-AD2A-446D-9696-D78ADBCEB3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B. Wel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%202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5000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62520" y="1523880"/>
            <a:ext cx="1600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BAA-CD23-4789-836E-C1661CE8DB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%201" descr=""/>
          <p:cNvPicPr/>
          <p:nvPr/>
        </p:nvPicPr>
        <p:blipFill>
          <a:blip r:embed="rId1"/>
          <a:stretch/>
        </p:blipFill>
        <p:spPr>
          <a:xfrm>
            <a:off x="3352680" y="533520"/>
            <a:ext cx="3970440" cy="5670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080" y="136044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gnification: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457200"/>
            <a:ext cx="175284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609480"/>
            <a:ext cx="4572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57200"/>
            <a:ext cx="2971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1000" y="327672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gnification: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7360" y="502920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gnification: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der polarized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52800" y="57913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RN/EST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B. Welding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730-007F-48DB-8138-12AFCA42A7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ngitudinal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990720"/>
          <a:ext cx="9144000" cy="52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4290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1337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Glass insulator di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209680"/>
            <a:ext cx="761760" cy="15264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52160" y="205740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Outer 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350532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Inner 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286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276720"/>
            <a:ext cx="75960" cy="304560"/>
          </a:xfrm>
          <a:prstGeom prst="upArrow">
            <a:avLst>
              <a:gd name="adj1" fmla="val 50000"/>
              <a:gd name="adj2" fmla="val 1002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640" y="556272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Water out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79132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560" y="1523880"/>
            <a:ext cx="212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Electrical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to the strip-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2860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33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10666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Water inlets (circui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114300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72428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Water inl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(circui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952880"/>
            <a:ext cx="533160" cy="152640"/>
          </a:xfrm>
          <a:prstGeom prst="right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505320"/>
            <a:ext cx="533160" cy="228600"/>
          </a:xfrm>
          <a:custGeom>
            <a:avLst/>
            <a:gdLst>
              <a:gd name="textAreaLeft" fmla="*/ 8316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13716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33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" y="286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496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798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990720"/>
          <a:ext cx="3143160" cy="25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90720"/>
                    <a:ext cx="3143160" cy="25527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971800" y="3809880"/>
          <a:ext cx="3333600" cy="23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3809880"/>
                    <a:ext cx="3333600" cy="23828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257800" y="1295280"/>
          <a:ext cx="3386160" cy="223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295280"/>
                    <a:ext cx="3386160" cy="22338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AB2-B52C-43B1-9DAD-F530861ADF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1295280"/>
          <a:ext cx="876312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76312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5562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ner conductor connection fl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E7D-F6E5-4FCC-AA25-2900AA5639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rilling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38320" y="3809520"/>
            <a:ext cx="2590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rill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peration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ial ho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269-FDC6-474F-B537-9DBA7A4158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 parameters &amp; dimen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cooling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erial &amp; Wel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chanical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truction phases (CERN worksho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imum life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s forese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615-AF5A-4F21-959C-773ADB8057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InnerCond3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53337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ound shape thread inside the wa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AD2-9896-43A6-9DB2-64D0C0043A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poussage1" descr=""/>
          <p:cNvPicPr/>
          <p:nvPr/>
        </p:nvPicPr>
        <p:blipFill>
          <a:blip r:embed="rId1"/>
          <a:stretch/>
        </p:blipFill>
        <p:spPr>
          <a:xfrm>
            <a:off x="0" y="102888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248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34320" y="312372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nching of the outer sk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Repoussage15" descr=""/>
          <p:cNvPicPr/>
          <p:nvPr/>
        </p:nvPicPr>
        <p:blipFill>
          <a:blip r:embed="rId2"/>
          <a:stretch/>
        </p:blipFill>
        <p:spPr>
          <a:xfrm>
            <a:off x="0" y="9907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172-FC5C-42BA-A96C-856081EA24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lassInsulator%20disc" descr=""/>
          <p:cNvPicPr/>
          <p:nvPr/>
        </p:nvPicPr>
        <p:blipFill>
          <a:blip r:embed="rId1"/>
          <a:stretch/>
        </p:blipFill>
        <p:spPr>
          <a:xfrm>
            <a:off x="0" y="11430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05520" y="46483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las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sulator dis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8F7-9D95-4FA2-994E-265324A4C3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48160" y="37339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ont side assemb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FrontSide%20Assembly" descr=""/>
          <p:cNvPicPr/>
          <p:nvPr/>
        </p:nvPicPr>
        <p:blipFill>
          <a:blip r:embed="rId1"/>
          <a:stretch/>
        </p:blipFill>
        <p:spPr>
          <a:xfrm>
            <a:off x="0" y="13716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8C2-1A9B-46AA-AB35-B9B5A48677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38680" y="33526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ner condu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Inner%20Assembly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417204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C5B-91D2-40AE-A399-2EE9334591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77120" y="3200040"/>
            <a:ext cx="2666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ner and outer sk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InnerSkin" descr=""/>
          <p:cNvPicPr/>
          <p:nvPr/>
        </p:nvPicPr>
        <p:blipFill>
          <a:blip r:embed="rId1"/>
          <a:stretch/>
        </p:blipFill>
        <p:spPr>
          <a:xfrm>
            <a:off x="0" y="1371600"/>
            <a:ext cx="6324480" cy="4743360"/>
          </a:xfrm>
          <a:prstGeom prst="rect">
            <a:avLst/>
          </a:prstGeom>
          <a:ln w="0">
            <a:noFill/>
          </a:ln>
        </p:spPr>
      </p:pic>
      <p:pic>
        <p:nvPicPr>
          <p:cNvPr id="149" name="Outer%20pieces" descr=""/>
          <p:cNvPicPr/>
          <p:nvPr/>
        </p:nvPicPr>
        <p:blipFill>
          <a:blip r:embed="rId2"/>
          <a:stretch/>
        </p:blipFill>
        <p:spPr>
          <a:xfrm>
            <a:off x="0" y="137160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BE5-0C15-4481-A4F5-E4B3534DB1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71840" y="2895480"/>
            <a:ext cx="2971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herical blind holes for ceramic balls spac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Spacing%20Balls" descr=""/>
          <p:cNvPicPr/>
          <p:nvPr/>
        </p:nvPicPr>
        <p:blipFill>
          <a:blip r:embed="rId1"/>
          <a:stretch/>
        </p:blipFill>
        <p:spPr>
          <a:xfrm>
            <a:off x="0" y="144792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5EE-B0D0-46D5-9BEA-54DC360671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fetime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tigue is the major design issu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 study is going 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YS calculation of stresses and fatigue analysis (multi-axial stress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 static calculations give tensile stress of 14.8 Mpa (in the most critical section of the waist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ing  that the limit of fatigue for 10</a:t>
            </a:r>
            <a:r>
              <a:rPr b="0" lang="en-US" sz="1400" spc="-1" strike="noStrike" baseline="8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ractions is 100 Mpa, the survival of the prototype for 2 x 10</a:t>
            </a:r>
            <a:r>
              <a:rPr b="0" lang="en-US" sz="1400" spc="-1" strike="noStrike" baseline="66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ulses* (required value) does not seem unrealisti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Corresponding to 6 weeks of working operation at 50H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A00033%5B1%5D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724640" cy="31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DA7-0387-487B-90C0-6F271C721C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sts fores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1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30 kA / 1 Hz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200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bration experimental tes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isplacement capacitive sensor – W. Cooseman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N/SU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1b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Magnetic measurement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200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1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5000A D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July 200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t load transfer t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300 kA / 1 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3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300 kA / 50 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 rot="21123000">
            <a:off x="2210040" y="4571640"/>
            <a:ext cx="394020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OSTP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UDGET RESTRICTION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C1C-5ACF-45A2-BB7B-7EED4E575A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,  if phases of tests 2 and 3 are delayed or cancelled, step 1a, 1b and 1c allow by extrapolation to confirm important results about the reliability and the transfer of the heat lo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vertheless, a lot of questions are still without answers, in parti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llation of the target in the wai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rn exchan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chanical support fr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c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09E-36B3-4E70-8B7E-BD144A65FC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rn prototype developed in the frame of the NUFACT Target-Collector activ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in B.  -  Gilardoni S.  -  Grawer G  -  Haseroth H.  -  Maire G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ugain J-M.  -  Rangod S.  -  Ravn H.  -  Sievers P.  -  Voelker F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erence: CERN-NUFACT Note 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259-4EE1-4FF0-9C96-944B9DCFD2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9903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ify the reliability of 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300kA-50Hz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rn built according the conventional technique of pulsed horns and providing a minimum lifetime of one mont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470-DC71-444D-AAE7-D157F34ABB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osed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horn, subject of the presentation, could be the inner component of a two stages coaxial horns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cond outer horn could complete the focusing effect of the first inner 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is second outer horn is not considered in this phase of the projec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1433520"/>
          <a:ext cx="769608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33520"/>
                    <a:ext cx="769608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4E2-CB5C-4165-9166-5698C27CCF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us of the wai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ak curr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0 k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etition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 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lse leng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tage on the hor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200 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ms current in the hor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.5 k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wer dissipation (by current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9 k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in dep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25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B5A-0E07-44AF-A52B-90A6C78313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5638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03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er diame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42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 diameter (electrical connection flange)  895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e waist apert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56 m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st outer diame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8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erage waist wall thick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6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ble skin thick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2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65E-912B-47B9-BA24-757C476FCE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863640"/>
          <a:ext cx="9144000" cy="52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63640"/>
                    <a:ext cx="91440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mensions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429000"/>
            <a:ext cx="76212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CB0-D0B5-4683-A0FB-0A1E49F98E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 cooling circui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an power dissipation in the horn by current (kW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ter flow needed wit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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en-US" sz="1200" spc="-1" strike="noStrike" baseline="8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   (l/mn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imum allowable water flow in the horn  (l/mn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ing water pressure (bar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1-1.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ected temperature increase on the neck (</a:t>
            </a:r>
            <a:r>
              <a:rPr b="0" lang="en-US" sz="1200" spc="-1" strike="noStrike" baseline="8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wC1/PwC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Symath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wC1: Power extracted through the annular chann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wC2: Power extracted with showers from sprayer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523880"/>
          <a:ext cx="815328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15328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670-71F9-41E0-81F9-8004AB3AB9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15:44:13Z</dcterms:created>
  <dc:creator>rangod</dc:creator>
  <dc:description/>
  <dc:language>en-US</dc:language>
  <cp:lastModifiedBy>wallon</cp:lastModifiedBy>
  <dcterms:modified xsi:type="dcterms:W3CDTF">2002-12-17T14:42:53Z</dcterms:modified>
  <cp:revision>90</cp:revision>
  <dc:subject/>
  <dc:title>PowerPoint Presentation</dc:title>
</cp:coreProperties>
</file>